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7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png" ContentType="image/png"/>
  <Override PartName="/ppt/media/image43.jpeg" ContentType="image/jpeg"/>
  <Override PartName="/ppt/media/image36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44.png" ContentType="image/png"/>
  <Override PartName="/ppt/media/image4.wmf" ContentType="image/x-wmf"/>
  <Override PartName="/ppt/media/image46.png" ContentType="image/png"/>
  <Override PartName="/ppt/media/image6.wmf" ContentType="image/x-wmf"/>
  <Override PartName="/ppt/media/image11.png" ContentType="image/png"/>
  <Override PartName="/ppt/media/image38.png" ContentType="image/png"/>
  <Override PartName="/ppt/media/image8.png" ContentType="image/png"/>
  <Override PartName="/ppt/media/image45.jpeg" ContentType="image/jpeg"/>
  <Override PartName="/ppt/media/image16.wmf" ContentType="image/x-wmf"/>
  <Override PartName="/ppt/media/image37.png" ContentType="image/png"/>
  <Override PartName="/ppt/media/image7.png" ContentType="image/png"/>
  <Override PartName="/ppt/media/image5.wmf" ContentType="image/x-wmf"/>
  <Override PartName="/ppt/media/image1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D889-4892-44E8-858C-1E455AACF1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ту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B4FF-9E56-4E37-8A0A-D0B0CB3E1550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сновная причина роста расходов за счет средств краевого бюджета связана с переселением граждан из аварийного жилфонда. Данные за 2013-2014 годы приведены без здравоохран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CA97-E32E-4B03-B746-3307D66005CD}" type="slidenum"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2018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14571,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849,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109,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0,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6244,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7368,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A250-5642-49C9-A091-9EE3AE37F84F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FB8E-6355-4F0C-931B-38B66B199ECD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4D7A-FA72-4E75-9198-B6BE004022C6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основу прогноза социально-экономического развития Пермского края до 2013 года положена гипотеза о продолжении начавшегося во второй половине 2009 года восстановительного роста российской экономики на фоне благоприятной конъюнктуры рынка энергоносителей и удобрений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 основу  при формировании доходов краевого бюджета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няты показатели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азового варианта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ценарных условий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циально- экономического развития Пермского края на 2010- и на период до 2013 года. Показатели, соответствующие базовому  варианту сценарных условий, приведены в слайде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сле падения нефтяных цен в первой половине 2009 года прогнозируется умеренный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ост цены на нефть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с 61,1 долл. за баррель в 2009 году до 75 долл. за баррель в 2010-2011 году, 78 долл. и 79 долл. за баррель - в 2012 и 2013 годах соответственно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 итогам 2010 года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ндекс потребительских цен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в Пермском крае прогнозируется на уровне 106,6% (в среднегодовом выражении). На 2011-2013 годы инфляция в регионе запланирована ниже уровня 2009 года (112,2%), а именно, в 2011 году – 107,7%, в 2012 году – 107,4%, в 2013 году - 106,3%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результате постепенного оживления экономической активности, наращивания загрузки производственных мощностей (прежде всего, экспортно-ориентированным химическим производством), с учетом прогнозируемой динамики внешних факторов на умеренно благоприятном уровне ожидается рост финансовых результатов -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ибыл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в краевой экономике (налогооблагаемая прибыль крупных и средних предприятий и организаций): в 2011-2013 годах в базовом сценарии он составит 105,0%, 107,7%, 100,3% соответственно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5596-E6D7-4973-8C5D-A587885B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E2CC-C618-4BA7-B7B3-24D373F0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0EF1-E128-488A-96EF-AC0C74FB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81B0-CF52-4BCE-B8C3-C3EB24F9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CFE5-FA55-4339-883F-DD660276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24D7-85E7-48B9-BACE-2F33F50A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F975-6C84-448A-9636-1CE84E0F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E7CA-DEBB-4EC5-939D-49DABB4E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C731-6594-49A5-978A-8E93FA52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3905-FFD2-452D-A636-8508BD80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9FE7-4313-4485-A8DB-53B5690A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4719-9DFA-4E1F-A7A8-2F0B8CF6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46A3-BF58-4735-8985-3A22F2A3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266A-BE1B-46F2-9260-7F164838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A699-2807-4FC5-A4EF-3729AFBD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B068-7052-4BE7-B812-27D71389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AAC6-5151-4FDA-B8E8-6580D1B6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BC90F-E358-4725-9F23-3DFDB6FE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96B68-AB65-4D5E-82E1-5E666294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915D7-9CA3-45BA-A4E2-8150256F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40F5E-3C93-497C-A119-27BE3D01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2DA86-0431-46B8-AC5B-E0A658C9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105D-81B8-4ED8-8C96-2E970C9F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923D8-70F9-4188-A425-139DD479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CF6CB-FEFC-4B2D-992B-139658B3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32799-2F70-4365-962F-195DB97E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9D1A4-5782-4E09-B80A-9BC199FD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D4E96-5181-4596-94A0-1E98CF96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CAFAC-3416-4ACB-B992-28C7AFFE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6B12D-149C-42CD-995F-DE768ADB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83AA-2333-4481-ABBF-57AD12A6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8BB9-CBA5-443D-8DBC-D5A1C95C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EF75-BF82-42ED-8F81-9F1496BF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1465-5647-4F84-BBE4-C7529290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6D2D-AE04-4500-8A20-AE94187C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28D0-CD4E-46E3-AA0C-781D0537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BB32-352B-4146-A168-2AE776A26FF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2E4D-DA2E-448F-9FD8-6CA1CDD8970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02E1-D211-48AA-82F1-A450D9F414D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39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3" descr=""/>
          <p:cNvPicPr/>
          <p:nvPr/>
        </p:nvPicPr>
        <p:blipFill>
          <a:blip r:embed="rId1"/>
          <a:stretch/>
        </p:blipFill>
        <p:spPr>
          <a:xfrm>
            <a:off x="0" y="262080"/>
            <a:ext cx="9107640" cy="6046560"/>
          </a:xfrm>
          <a:prstGeom prst="rect">
            <a:avLst/>
          </a:prstGeom>
          <a:ln w="0">
            <a:noFill/>
          </a:ln>
        </p:spPr>
      </p:pic>
      <p:sp>
        <p:nvSpPr>
          <p:cNvPr id="13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939A-1FB1-495A-A026-DF83F720A2AD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7920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инамика и структура налоговых и неналоговых доходов бюджета города Кудымкара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50920" y="1052640"/>
          <a:ext cx="8569080" cy="5472000"/>
        </p:xfrm>
        <a:graphic>
          <a:graphicData uri="http://schemas.openxmlformats.org/drawingml/2006/table">
            <a:tbl>
              <a:tblPr/>
              <a:tblGrid>
                <a:gridCol w="3951360"/>
                <a:gridCol w="1149120"/>
                <a:gridCol w="1131840"/>
                <a:gridCol w="1175040"/>
                <a:gridCol w="1161720"/>
              </a:tblGrid>
              <a:tr h="849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ffff"/>
                          </a:solidFill>
                          <a:latin typeface="Calibri"/>
                        </a:rPr>
                        <a:t>Наименование дохо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ffff"/>
                          </a:solidFill>
                          <a:latin typeface="Calibri"/>
                        </a:rPr>
                        <a:t>2015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ffff"/>
                          </a:solidFill>
                          <a:latin typeface="Calibri"/>
                        </a:rPr>
                        <a:t>Уточнен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ffff"/>
                          </a:solidFill>
                          <a:latin typeface="Calibri"/>
                        </a:rPr>
                        <a:t>вариан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ffff"/>
                          </a:solidFill>
                          <a:latin typeface="Calibri"/>
                        </a:rPr>
                        <a:t>2016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ffff"/>
                          </a:solidFill>
                          <a:latin typeface="Calibri"/>
                        </a:rPr>
                        <a:t>2017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ffff"/>
                          </a:solidFill>
                          <a:latin typeface="Calibri"/>
                        </a:rPr>
                        <a:t>2018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СОБСТВЕННЫЕ ДОХОДЫ,     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200 270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208 667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204 593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188 327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3012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НАЛОГОВЫЕ ДОХОДЫ, всего    в т. ч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173 662,6                         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181 733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185 638,1                                                                                                                                                               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169 971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Налог на доходы физических ли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84 873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86 99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89 17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91 41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Акциз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2 702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2 992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2 502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2 502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Налоги на совокупный доход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31 398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32 202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33 78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15 4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Налог на имущество физических ли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4 23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4 857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5 333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5 696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Транспортный на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23 403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24 162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24 23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24 3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Земельный налог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23 591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26 892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26 89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26 89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Государственная пошл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3 459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3 63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3 71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3 71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НЕНАЛОГОВЫЕ ДОХОДЫ,  всего    в т. ч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26 608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26 933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18 955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18 355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ходы от использования имуще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 292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 157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 157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 157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ходы от продажи имуще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 698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 923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24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Штрафы, санкции, возмещение ущерб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 57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 55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 638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 73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Box 3"/>
          <p:cNvSpPr/>
          <p:nvPr/>
        </p:nvSpPr>
        <p:spPr>
          <a:xfrm>
            <a:off x="8710560" y="657540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60EF-4BB8-474C-AC8E-835D81EDACBD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31920" y="296640"/>
            <a:ext cx="86090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инамика поступления в бюджет города Кудымкара       </a:t>
            </a: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   безвозмездных поступлений    (тыс. руб.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1600200"/>
          <a:ext cx="8766000" cy="3718080"/>
        </p:xfrm>
        <a:graphic>
          <a:graphicData uri="http://schemas.openxmlformats.org/drawingml/2006/table">
            <a:tbl>
              <a:tblPr/>
              <a:tblGrid>
                <a:gridCol w="2520720"/>
                <a:gridCol w="1584360"/>
                <a:gridCol w="1511280"/>
                <a:gridCol w="1513080"/>
                <a:gridCol w="1636560"/>
              </a:tblGrid>
              <a:tr h="945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5 год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уточненный план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80 885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61 798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26 614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15 455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2 414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9 958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 627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9 51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сид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7 860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7 957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 36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 558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вен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9 561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3 88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5 621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4 383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бюджетные трансфер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049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42472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Bookman Old Style"/>
              </a:rPr>
              <a:t>Расходы бюджета </a:t>
            </a:r>
            <a:br>
              <a:rPr sz="6000"/>
            </a:br>
            <a:r>
              <a:rPr b="1" lang="ru-RU" sz="4400" spc="-1" strike="noStrike">
                <a:solidFill>
                  <a:srgbClr val="ffff00"/>
                </a:solidFill>
                <a:latin typeface="Bookman Old Style"/>
              </a:rPr>
              <a:t>города Кудымкар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Bookman Old Style"/>
              </a:rPr>
              <a:t>Основные подходы формирования расходов бюджета на 2016-201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8000" y="1268280"/>
            <a:ext cx="8218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, в первую очередь, действующие расходные обязательств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ланирование расходов бюджета на 2016-2018 год на основе объемов утвержденных решением Думы о бюджете на 2015-2017 годы, с учетом корректировок, сокращением или увеличением отдельных расходов в связи с окончанием срока действия расходных обязательств или предполагаемых изменений потребителей муниципальных услуг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исполнение Указов Президента РФ от  7 мая 2012 года о повышении     заработной платы работников бюджетной сферы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охранение фонда оплаты труда работников муниципальных учреждений на уровне 2015 года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инансовое обеспечение казенных учреждений в 2016-2018 годах на уровне расходов 2014 года с индексацией материальных затрат и коммунальных услуг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8748720" y="645336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Объект 2" descr=""/>
          <p:cNvPicPr/>
          <p:nvPr/>
        </p:nvPicPr>
        <p:blipFill>
          <a:blip r:embed="rId1"/>
          <a:stretch/>
        </p:blipFill>
        <p:spPr>
          <a:xfrm>
            <a:off x="520560" y="1235160"/>
            <a:ext cx="8453520" cy="5257800"/>
          </a:xfrm>
          <a:prstGeom prst="rect">
            <a:avLst/>
          </a:prstGeom>
          <a:ln w="0">
            <a:noFill/>
          </a:ln>
        </p:spPr>
      </p:pic>
      <p:sp>
        <p:nvSpPr>
          <p:cNvPr id="22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A99A-9FBF-4141-8F98-631E34D97B71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285840" y="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c00"/>
                </a:solidFill>
                <a:latin typeface="Times New Roman"/>
                <a:ea typeface="Arial"/>
              </a:rPr>
              <a:t>Динамика расходов бюджета г.Кудымкара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c00"/>
                </a:solidFill>
                <a:latin typeface="Times New Roman"/>
                <a:ea typeface="Arial"/>
              </a:rPr>
              <a:t> </a:t>
            </a:r>
            <a:r>
              <a:rPr b="1" lang="ru-RU" sz="3000" spc="-1" strike="noStrike">
                <a:solidFill>
                  <a:srgbClr val="ffcc00"/>
                </a:solidFill>
                <a:latin typeface="Times New Roman"/>
                <a:ea typeface="Arial"/>
              </a:rPr>
              <a:t>2016-2018 годы, млн.руб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  <a:ea typeface="Arial Cyr"/>
              </a:rPr>
              <a:t>Расходы бюджета города Кудымкара на 2016 год </a:t>
            </a:r>
            <a:r>
              <a:rPr b="1" lang="ru-RU" sz="1600" spc="-1" strike="noStrike">
                <a:solidFill>
                  <a:srgbClr val="ffff00"/>
                </a:solidFill>
                <a:latin typeface="Calibri"/>
                <a:ea typeface="Arial Cyr"/>
              </a:rPr>
              <a:t>(млн.руб.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1" name="Объект 5" descr=""/>
          <p:cNvPicPr/>
          <p:nvPr/>
        </p:nvPicPr>
        <p:blipFill>
          <a:blip r:embed="rId1"/>
          <a:stretch/>
        </p:blipFill>
        <p:spPr>
          <a:xfrm>
            <a:off x="-15840" y="1104840"/>
            <a:ext cx="4567320" cy="3341880"/>
          </a:xfrm>
          <a:prstGeom prst="rect">
            <a:avLst/>
          </a:prstGeom>
          <a:ln w="0">
            <a:noFill/>
          </a:ln>
        </p:spPr>
      </p:pic>
      <p:pic>
        <p:nvPicPr>
          <p:cNvPr id="232" name="Объект 10" descr=""/>
          <p:cNvPicPr/>
          <p:nvPr/>
        </p:nvPicPr>
        <p:blipFill>
          <a:blip r:embed="rId2"/>
          <a:stretch/>
        </p:blipFill>
        <p:spPr>
          <a:xfrm>
            <a:off x="4160880" y="455760"/>
            <a:ext cx="5033880" cy="43495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6"/>
          <p:cNvSpPr/>
          <p:nvPr/>
        </p:nvSpPr>
        <p:spPr>
          <a:xfrm>
            <a:off x="2266920" y="1135080"/>
            <a:ext cx="720720" cy="337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Arial"/>
              </a:rPr>
              <a:t>+33,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Выгнутая вверх стрелка 7"/>
          <p:cNvSpPr/>
          <p:nvPr/>
        </p:nvSpPr>
        <p:spPr>
          <a:xfrm rot="21289200">
            <a:off x="1752120" y="1049040"/>
            <a:ext cx="1760760" cy="293760"/>
          </a:xfrm>
          <a:custGeom>
            <a:avLst/>
            <a:gdLst>
              <a:gd name="textAreaLeft" fmla="*/ 357480 w 1760760"/>
              <a:gd name="textAreaRight" fmla="*/ 1146600 w 1760760"/>
              <a:gd name="textAreaTop" fmla="*/ 39240 h 293760"/>
              <a:gd name="textAreaBottom" fmla="*/ 254520 h 293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78" hR="21600" stAng="10800000" swAng="5400000"/>
                <a:lnTo>
                  <a:pt x="9679" y="0"/>
                </a:lnTo>
                <a:arcTo wR="8778" hR="21600" stAng="-5400000" swAng="2889696"/>
                <a:lnTo>
                  <a:pt x="21071" y="14215"/>
                </a:lnTo>
                <a:lnTo>
                  <a:pt x="18006" y="21600"/>
                </a:lnTo>
                <a:lnTo>
                  <a:pt x="13882" y="14215"/>
                </a:lnTo>
                <a:lnTo>
                  <a:pt x="17026" y="14215"/>
                </a:lnTo>
                <a:arcTo wR="8778" hR="21600" stAng="-2510304" swAng="-2817913"/>
                <a:lnTo>
                  <a:pt x="9228" y="28"/>
                </a:lnTo>
                <a:arcTo wR="8778" hR="21600" stAng="-5471783" swAng="-5328217"/>
                <a:close/>
              </a:path>
              <a:path fill="darkenLess" w="21600" h="21600">
                <a:moveTo>
                  <a:pt x="0" y="21600"/>
                </a:moveTo>
                <a:arcTo wR="8778" hR="21600" stAng="10800000" swAng="5400000"/>
                <a:lnTo>
                  <a:pt x="8778" y="0"/>
                </a:lnTo>
                <a:arcTo wR="8778" hR="21600" stAng="-5400000" swAng="71783"/>
                <a:lnTo>
                  <a:pt x="9228" y="28"/>
                </a:lnTo>
                <a:arcTo wR="8778" hR="21600" stAng="-5471783" swAng="-5328217"/>
                <a:close/>
              </a:path>
            </a:pathLst>
          </a:custGeom>
          <a:solidFill>
            <a:srgbClr val="ffff0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1476360" y="83664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Arial"/>
              </a:rPr>
              <a:t>+5,1 %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6118200" y="3213000"/>
            <a:ext cx="11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5ff"/>
                </a:solidFill>
                <a:latin typeface="Calibri"/>
                <a:ea typeface="Arial"/>
              </a:rPr>
              <a:t>687,6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Скругленный прямоугольник 13"/>
          <p:cNvSpPr/>
          <p:nvPr/>
        </p:nvSpPr>
        <p:spPr>
          <a:xfrm>
            <a:off x="4433760" y="4686480"/>
            <a:ext cx="4602240" cy="398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6666"/>
                </a:solidFill>
                <a:uFillTx/>
                <a:latin typeface="TimesET"/>
              </a:rPr>
              <a:t>Структура прочих расходов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Скругленный прямоугольник 14"/>
          <p:cNvSpPr/>
          <p:nvPr/>
        </p:nvSpPr>
        <p:spPr>
          <a:xfrm>
            <a:off x="4433760" y="5084640"/>
            <a:ext cx="2301840" cy="65880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ET"/>
              </a:rPr>
              <a:t>Национальная безопасность и правоохранительная деятельность (0,6%)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Скругленный прямоугольник 15"/>
          <p:cNvSpPr/>
          <p:nvPr/>
        </p:nvSpPr>
        <p:spPr>
          <a:xfrm>
            <a:off x="4422600" y="5743440"/>
            <a:ext cx="2313000" cy="4399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ET"/>
              </a:rPr>
              <a:t>Охрана окружающей среды (0,04%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Скругленный прямоугольник 16"/>
          <p:cNvSpPr/>
          <p:nvPr/>
        </p:nvSpPr>
        <p:spPr>
          <a:xfrm>
            <a:off x="6735600" y="5084640"/>
            <a:ext cx="2300400" cy="65880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ET"/>
              </a:rPr>
              <a:t>Средства массовой информации (0,09%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Скругленный прямоугольник 17"/>
          <p:cNvSpPr/>
          <p:nvPr/>
        </p:nvSpPr>
        <p:spPr>
          <a:xfrm>
            <a:off x="6735600" y="5743440"/>
            <a:ext cx="2300400" cy="4399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ET"/>
              </a:rPr>
              <a:t>Обслуживание муниципального долга (0,1 %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2" name="Диаграмма 18" descr=""/>
          <p:cNvPicPr/>
          <p:nvPr/>
        </p:nvPicPr>
        <p:blipFill>
          <a:blip r:embed="rId3"/>
          <a:stretch/>
        </p:blipFill>
        <p:spPr>
          <a:xfrm>
            <a:off x="417600" y="4314960"/>
            <a:ext cx="3917880" cy="2333520"/>
          </a:xfrm>
          <a:prstGeom prst="rect">
            <a:avLst/>
          </a:prstGeom>
          <a:ln w="0">
            <a:noFill/>
          </a:ln>
        </p:spPr>
      </p:pic>
      <p:sp>
        <p:nvSpPr>
          <p:cNvPr id="243" name="Выгнутая вверх стрелка 20"/>
          <p:cNvSpPr/>
          <p:nvPr/>
        </p:nvSpPr>
        <p:spPr>
          <a:xfrm rot="21289200">
            <a:off x="1930320" y="4811400"/>
            <a:ext cx="1268640" cy="187200"/>
          </a:xfrm>
          <a:custGeom>
            <a:avLst/>
            <a:gdLst>
              <a:gd name="textAreaLeft" fmla="*/ 264240 w 1268640"/>
              <a:gd name="textAreaRight" fmla="*/ 842400 w 1268640"/>
              <a:gd name="textAreaTop" fmla="*/ 24840 h 187200"/>
              <a:gd name="textAreaBottom" fmla="*/ 162360 h 18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99" hR="21600" stAng="10800000" swAng="5400000"/>
                <a:lnTo>
                  <a:pt x="9840" y="0"/>
                </a:lnTo>
                <a:arcTo wR="8999" hR="21600" stAng="-5400000" swAng="2932116"/>
                <a:lnTo>
                  <a:pt x="21058" y="14215"/>
                </a:lnTo>
                <a:lnTo>
                  <a:pt x="18418" y="21600"/>
                </a:lnTo>
                <a:lnTo>
                  <a:pt x="14693" y="14215"/>
                </a:lnTo>
                <a:lnTo>
                  <a:pt x="17455" y="14215"/>
                </a:lnTo>
                <a:arcTo wR="8999" hR="21600" stAng="-2467884" swAng="-2865126"/>
                <a:lnTo>
                  <a:pt x="9419" y="24"/>
                </a:lnTo>
                <a:arcTo wR="8999" hR="21600" stAng="-5466989" swAng="-5333011"/>
                <a:close/>
              </a:path>
              <a:path fill="darkenLess" w="21600" h="21600">
                <a:moveTo>
                  <a:pt x="0" y="21600"/>
                </a:moveTo>
                <a:arcTo wR="8999" hR="21600" stAng="10800000" swAng="5400000"/>
                <a:lnTo>
                  <a:pt x="8999" y="0"/>
                </a:lnTo>
                <a:arcTo wR="8999" hR="21600" stAng="-5400000" swAng="66989"/>
                <a:lnTo>
                  <a:pt x="9419" y="24"/>
                </a:lnTo>
                <a:arcTo wR="8999" hR="21600" stAng="-5466989" swAng="-5333011"/>
                <a:close/>
              </a:path>
            </a:pathLst>
          </a:custGeom>
          <a:solidFill>
            <a:srgbClr val="0099cc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Box 21"/>
          <p:cNvSpPr/>
          <p:nvPr/>
        </p:nvSpPr>
        <p:spPr>
          <a:xfrm>
            <a:off x="1332000" y="46864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Calibri"/>
                <a:ea typeface="Arial"/>
              </a:rPr>
              <a:t>+28,6 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TextBox 18"/>
          <p:cNvSpPr/>
          <p:nvPr/>
        </p:nvSpPr>
        <p:spPr>
          <a:xfrm>
            <a:off x="8748720" y="645336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Скругленный прямоугольник 5"/>
          <p:cNvSpPr/>
          <p:nvPr/>
        </p:nvSpPr>
        <p:spPr>
          <a:xfrm>
            <a:off x="2484360" y="115920"/>
            <a:ext cx="655164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46788"/>
              </a:gs>
              <a:gs pos="100000">
                <a:srgbClr val="94b4ea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Bookman Old Style"/>
              </a:rPr>
              <a:t>Расходы бюджета на реализацию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Bookman Old Style"/>
              </a:rPr>
              <a:t>18 муниципальных программ  на 2016 год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79280" y="3573360"/>
          <a:ext cx="4969080" cy="3127320"/>
        </p:xfrm>
        <a:graphic>
          <a:graphicData uri="http://schemas.openxmlformats.org/drawingml/2006/table">
            <a:tbl>
              <a:tblPr/>
              <a:tblGrid>
                <a:gridCol w="4165560"/>
                <a:gridCol w="803520"/>
              </a:tblGrid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циальная поддерж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,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25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еспечение общественной безопас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,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ческое развит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,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держание муниципального жилищного фонд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,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правление муниципальным имуществом и земельными ресурса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,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храна окружающей сре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,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23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азвитие муниципальной  служб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,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униципальные финан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,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7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офилактика правонарушени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,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крепление гражданского единств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,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59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еспечение жильем молодых сем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,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248" name="Прямоугольник с двумя вырезанными соседними углами 8"/>
          <p:cNvSpPr/>
          <p:nvPr/>
        </p:nvSpPr>
        <p:spPr>
          <a:xfrm>
            <a:off x="179280" y="2924280"/>
            <a:ext cx="4969080" cy="43344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cc00"/>
                </a:solidFill>
                <a:uFillTx/>
                <a:latin typeface="Calibri"/>
              </a:rPr>
              <a:t>Прочие муниципальные программ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Стрелка вниз 10"/>
          <p:cNvSpPr/>
          <p:nvPr/>
        </p:nvSpPr>
        <p:spPr>
          <a:xfrm>
            <a:off x="1692360" y="3357720"/>
            <a:ext cx="2232000" cy="215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0" name="Объект 2" descr=""/>
          <p:cNvPicPr/>
          <p:nvPr/>
        </p:nvPicPr>
        <p:blipFill>
          <a:blip r:embed="rId1"/>
          <a:stretch/>
        </p:blipFill>
        <p:spPr>
          <a:xfrm>
            <a:off x="128520" y="0"/>
            <a:ext cx="8842320" cy="6311880"/>
          </a:xfrm>
          <a:prstGeom prst="rect">
            <a:avLst/>
          </a:prstGeom>
          <a:ln w="0">
            <a:noFill/>
          </a:ln>
        </p:spPr>
      </p:pic>
      <p:sp>
        <p:nvSpPr>
          <p:cNvPr id="251" name="TextBox 6"/>
          <p:cNvSpPr/>
          <p:nvPr/>
        </p:nvSpPr>
        <p:spPr>
          <a:xfrm>
            <a:off x="8748720" y="645336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723600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Расходы на реализацию муниципальной программы </a:t>
            </a:r>
            <a:r>
              <a:rPr b="1" lang="ru-RU" sz="2800" spc="-1" strike="noStrike">
                <a:solidFill>
                  <a:srgbClr val="ff3300"/>
                </a:solidFill>
                <a:latin typeface="Bookman Old Style"/>
                <a:ea typeface="Times New Roman"/>
              </a:rPr>
              <a:t>«Развитие образования», </a:t>
            </a:r>
            <a:r>
              <a:rPr b="1" lang="ru-RU" sz="20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тыс.руб.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Bookman Old Style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3" name="Picture 5" descr="C:\Users\ChuprovaGP\Desktop\iCAP80BFY.jpg"/>
          <p:cNvPicPr/>
          <p:nvPr/>
        </p:nvPicPr>
        <p:blipFill>
          <a:blip r:embed="rId1"/>
          <a:stretch/>
        </p:blipFill>
        <p:spPr>
          <a:xfrm>
            <a:off x="106200" y="38160"/>
            <a:ext cx="2232360" cy="167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" name=""/>
          <p:cNvGraphicFramePr/>
          <p:nvPr/>
        </p:nvGraphicFramePr>
        <p:xfrm>
          <a:off x="108000" y="1357200"/>
          <a:ext cx="8928000" cy="5096160"/>
        </p:xfrm>
        <a:graphic>
          <a:graphicData uri="http://schemas.openxmlformats.org/drawingml/2006/table">
            <a:tbl>
              <a:tblPr/>
              <a:tblGrid>
                <a:gridCol w="4535280"/>
                <a:gridCol w="936720"/>
                <a:gridCol w="863640"/>
                <a:gridCol w="792360"/>
                <a:gridCol w="898200"/>
                <a:gridCol w="901800"/>
              </a:tblGrid>
              <a:tr h="647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>
                        <a:alpha val="29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5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>
                        <a:alpha val="29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6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>
                        <a:alpha val="29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к 2015 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>
                        <a:alpha val="29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7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>
                        <a:alpha val="29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8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>
                        <a:alpha val="29000"/>
                      </a:srgbClr>
                    </a:solidFill>
                  </a:tcPr>
                </a:tc>
              </a:tr>
              <a:tr h="600120">
                <a:tc>
                  <a:txBody>
                    <a:bodyPr lIns="11412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1412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4038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36935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8,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24125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11760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4272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з них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34272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11412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школьное общее образ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1412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22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9247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8250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9500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11412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чальное общее, основное общее, среднее общее образ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1412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4918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48904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5,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37066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21891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11412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полнительное образование и воспитание дет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1412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523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4478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5997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7553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11412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ведение образовательных организаций в нормативное состоя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1412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11412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адровая поли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1412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0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1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1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TextBox 5"/>
          <p:cNvSpPr/>
          <p:nvPr/>
        </p:nvSpPr>
        <p:spPr>
          <a:xfrm>
            <a:off x="8748720" y="645336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6788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Развитие культуры, искусства и молодежной политики города Кудымкара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24000" y="836640"/>
          <a:ext cx="8605800" cy="5905440"/>
        </p:xfrm>
        <a:graphic>
          <a:graphicData uri="http://schemas.openxmlformats.org/drawingml/2006/table">
            <a:tbl>
              <a:tblPr/>
              <a:tblGrid>
                <a:gridCol w="4559040"/>
                <a:gridCol w="865440"/>
                <a:gridCol w="866520"/>
                <a:gridCol w="808200"/>
                <a:gridCol w="807840"/>
                <a:gridCol w="698760"/>
              </a:tblGrid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5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6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к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2015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7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8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</a:tr>
              <a:tr h="253080">
                <a:tc>
                  <a:txBody>
                    <a:bodyPr lIns="1144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624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4485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9,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6327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5814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4572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з ни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45720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1144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ведение фестивалей, праздников, мероприятий к официальным дата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29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2,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29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29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1144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ддержка и развитие национальной культуры, народных промыслов и ремесел, проекты въездного туриз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8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4,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8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8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1144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вышение уровня информационной обеспеченности насе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1144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ведение мероприятий, направленных на выявление и поддержку одаренных дет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5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37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6,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37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1144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звитие инфраструктуры и приведение в нормативное состояние учреждений отрасли культу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239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9,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1144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 по сохранению объектов культурного наслед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2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2,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2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2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1144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рганизация и проведение мероприятий для молодеж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7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8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3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7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1144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еспечение деятельности учреждений культу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54872"/>
                        </a:gs>
                        <a:gs pos="100000">
                          <a:srgbClr val="4780c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177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54872"/>
                        </a:gs>
                        <a:gs pos="100000">
                          <a:srgbClr val="4780c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675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54872"/>
                        </a:gs>
                        <a:gs pos="100000">
                          <a:srgbClr val="4780c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,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54872"/>
                        </a:gs>
                        <a:gs pos="100000">
                          <a:srgbClr val="4780c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9421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54872"/>
                        </a:gs>
                        <a:gs pos="100000">
                          <a:srgbClr val="4780c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9087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54872"/>
                        </a:gs>
                        <a:gs pos="100000">
                          <a:srgbClr val="4780c5"/>
                        </a:gs>
                      </a:gsLst>
                      <a:lin ang="16200000"/>
                    </a:gradFill>
                  </a:tcPr>
                </a:tc>
              </a:tr>
              <a:tr h="374040">
                <a:tc>
                  <a:txBody>
                    <a:bodyPr lIns="1144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тская музыкальная шко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54872"/>
                        </a:gs>
                        <a:gs pos="100000">
                          <a:srgbClr val="4780c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797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54872"/>
                        </a:gs>
                        <a:gs pos="100000">
                          <a:srgbClr val="4780c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442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54872"/>
                        </a:gs>
                        <a:gs pos="100000">
                          <a:srgbClr val="4780c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6,7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54872"/>
                        </a:gs>
                        <a:gs pos="100000">
                          <a:srgbClr val="4780c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38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54872"/>
                        </a:gs>
                        <a:gs pos="100000">
                          <a:srgbClr val="4780c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601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54872"/>
                        </a:gs>
                        <a:gs pos="100000">
                          <a:srgbClr val="4780c5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  <p:sp>
        <p:nvSpPr>
          <p:cNvPr id="258" name="TextBox 3"/>
          <p:cNvSpPr/>
          <p:nvPr/>
        </p:nvSpPr>
        <p:spPr>
          <a:xfrm>
            <a:off x="8964720" y="65912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14200" y="1568520"/>
          <a:ext cx="8678880" cy="5214960"/>
        </p:xfrm>
        <a:graphic>
          <a:graphicData uri="http://schemas.openxmlformats.org/drawingml/2006/table">
            <a:tbl>
              <a:tblPr/>
              <a:tblGrid>
                <a:gridCol w="4498920"/>
                <a:gridCol w="920880"/>
                <a:gridCol w="851040"/>
                <a:gridCol w="752400"/>
                <a:gridCol w="863640"/>
                <a:gridCol w="792000"/>
              </a:tblGrid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ател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5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6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к 2015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7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8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</a:tr>
              <a:tr h="565200">
                <a:tc>
                  <a:txBody>
                    <a:bodyPr lIns="1144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72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324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,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151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571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571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71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1144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рганизация и проведение физкультурно-оздоровительных и спортивно-массовых мероприят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50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45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49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49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1144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ведение в нормативное состояние муниципальных учреждений физической культуры и спор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3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9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1144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оительство  и реконструкция спортивных объектов в городе Кудымкар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72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,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1144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еспечение деятельности стадиона «Парм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33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467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8,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84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244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</a:tr>
              <a:tr h="708120">
                <a:tc>
                  <a:txBody>
                    <a:bodyPr lIns="1144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еспечение деятельности плавательного бассейна гор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208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639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,9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145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368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</a:tr>
            </a:tbl>
          </a:graphicData>
        </a:graphic>
      </p:graphicFrame>
      <p:pic>
        <p:nvPicPr>
          <p:cNvPr id="260" name="Picture 4" descr="T:\ОБП\Лукин\Картинки\спорт.jpg"/>
          <p:cNvPicPr/>
          <p:nvPr/>
        </p:nvPicPr>
        <p:blipFill>
          <a:blip r:embed="rId13"/>
          <a:stretch/>
        </p:blipFill>
        <p:spPr>
          <a:xfrm>
            <a:off x="0" y="0"/>
            <a:ext cx="2359080" cy="156672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28520" y="-360"/>
            <a:ext cx="74293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Bookman Old Style"/>
                <a:ea typeface="Times New Roman"/>
              </a:rPr>
              <a:t>Развитие физической культуры и  спорта города Кудымкар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Box 4"/>
          <p:cNvSpPr/>
          <p:nvPr/>
        </p:nvSpPr>
        <p:spPr>
          <a:xfrm>
            <a:off x="8072280" y="105264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тыс.руб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921880" y="652140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05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Основные параметры бюджета города Кудымкара на 2016 - 2018 годы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B1F5-87E9-40AA-8BC8-D16FA51CB894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7542360" y="1177920"/>
            <a:ext cx="16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  <a:ea typeface="Arial"/>
              </a:rPr>
              <a:t>млн.руб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600200"/>
          <a:ext cx="8291520" cy="4060800"/>
        </p:xfrm>
        <a:graphic>
          <a:graphicData uri="http://schemas.openxmlformats.org/drawingml/2006/table">
            <a:tbl>
              <a:tblPr/>
              <a:tblGrid>
                <a:gridCol w="2014560"/>
                <a:gridCol w="2012760"/>
                <a:gridCol w="2014560"/>
                <a:gridCol w="2249640"/>
              </a:tblGrid>
              <a:tr h="97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ери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5a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6 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5a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7 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5a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5aeff"/>
                    </a:solidFill>
                  </a:tcPr>
                </a:tc>
              </a:tr>
              <a:tr h="99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ход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0,5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1,2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3,8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93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схо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e1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7,6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e1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,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e1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9,4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e1ff"/>
                    </a:solidFill>
                  </a:tcPr>
                </a:tc>
              </a:tr>
              <a:tr h="110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ефици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17,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18,8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15,7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4334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кономическое развитие города Кудымкара,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ыс.руб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79280" y="644400"/>
          <a:ext cx="8713800" cy="5994360"/>
        </p:xfrm>
        <a:graphic>
          <a:graphicData uri="http://schemas.openxmlformats.org/drawingml/2006/table">
            <a:tbl>
              <a:tblPr/>
              <a:tblGrid>
                <a:gridCol w="5427720"/>
                <a:gridCol w="696960"/>
                <a:gridCol w="619200"/>
                <a:gridCol w="703080"/>
                <a:gridCol w="650880"/>
                <a:gridCol w="615960"/>
              </a:tblGrid>
              <a:tr h="4971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а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к 2015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7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10692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Подпрограмма «Развитие и поддержка малого и среднего предпринимательства», всего в том числе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692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3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139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7,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147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15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252360">
                <a:tc>
                  <a:txBody>
                    <a:bodyPr lIns="10692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епрограммные мероприя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692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2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4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10692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звитие микрофинанс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692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6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8,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23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8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10692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сультационная и информационная поддерж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692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8,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8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10692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дготовка, переподготовка и повышение квалификации кадр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692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0,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10692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паганда и популяризация предпринимательской деятель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692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4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8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10692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действие росту конкурентоспособности и продвижению продукции субъектов малого и среднего предприниматель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692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3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10692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Подпрограмма «Содействие занятости населения»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всего в том числе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692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998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1590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59,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1060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1060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96800">
                <a:tc>
                  <a:txBody>
                    <a:bodyPr lIns="10692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рганизация проведения оплачиваемых общественных раб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692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7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19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7,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89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89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10692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рганизация временного трудоустройства несовершеннолетних граждан в возрасте от 14 до 18 л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692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0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4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4,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4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4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10692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рганизация и проведение конкурса «Лучший социально ответственный работодатель города Кудымкар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692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TextBox 4"/>
          <p:cNvSpPr/>
          <p:nvPr/>
        </p:nvSpPr>
        <p:spPr>
          <a:xfrm>
            <a:off x="8748720" y="659124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52560"/>
            <a:ext cx="92869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Расходы  на реализацию муниципальной программы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Содержание муниципального жилищного фонда г.Кудымкара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85840" y="1285920"/>
          <a:ext cx="8572320" cy="5127480"/>
        </p:xfrm>
        <a:graphic>
          <a:graphicData uri="http://schemas.openxmlformats.org/drawingml/2006/table">
            <a:tbl>
              <a:tblPr/>
              <a:tblGrid>
                <a:gridCol w="5386320"/>
                <a:gridCol w="1062000"/>
                <a:gridCol w="1062000"/>
                <a:gridCol w="1062000"/>
              </a:tblGrid>
              <a:tr h="500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ател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6 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7 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8 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82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го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272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237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122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439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з них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апитальный ремонт муниципального жилищного фонда за счёт платы за социальный най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54872"/>
                        </a:gs>
                        <a:gs pos="100000">
                          <a:srgbClr val="4780c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54872"/>
                        </a:gs>
                        <a:gs pos="100000">
                          <a:srgbClr val="4780c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54872"/>
                        </a:gs>
                        <a:gs pos="100000">
                          <a:srgbClr val="4780c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54872"/>
                        </a:gs>
                        <a:gs pos="100000">
                          <a:srgbClr val="4780c5"/>
                        </a:gs>
                      </a:gsLst>
                      <a:lin ang="16200000"/>
                    </a:gradFill>
                  </a:tcPr>
                </a:tc>
              </a:tr>
              <a:tr h="439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 по сносу ветхих (аварийных) дом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85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85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85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пенсация расходов на капитальный ремонт жилого помещения нанимателям муниципального жилищного фон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54872"/>
                        </a:gs>
                        <a:gs pos="100000">
                          <a:srgbClr val="4780c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54872"/>
                        </a:gs>
                        <a:gs pos="100000">
                          <a:srgbClr val="4780c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3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54872"/>
                        </a:gs>
                        <a:gs pos="100000">
                          <a:srgbClr val="4780c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3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54872"/>
                        </a:gs>
                        <a:gs pos="100000">
                          <a:srgbClr val="4780c5"/>
                        </a:gs>
                      </a:gsLst>
                      <a:lin ang="16200000"/>
                    </a:gradFill>
                  </a:tcPr>
                </a:tc>
              </a:tr>
              <a:tr h="671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знос на капитальный ремонт муниципального жилищного фонд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906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906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906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следование специализированной организацией многоквартирных домов (для признания таких домов аварийным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54872"/>
                        </a:gs>
                        <a:gs pos="100000">
                          <a:srgbClr val="4780c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54872"/>
                        </a:gs>
                        <a:gs pos="100000">
                          <a:srgbClr val="4780c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54872"/>
                        </a:gs>
                        <a:gs pos="100000">
                          <a:srgbClr val="4780c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54872"/>
                        </a:gs>
                        <a:gs pos="100000">
                          <a:srgbClr val="4780c5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  <p:sp>
        <p:nvSpPr>
          <p:cNvPr id="269" name="TextBox 3"/>
          <p:cNvSpPr/>
          <p:nvPr/>
        </p:nvSpPr>
        <p:spPr>
          <a:xfrm>
            <a:off x="7858080" y="9288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тыс.руб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8748720" y="645336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821800" cy="50472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62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держание и развитие городской инфраструктуры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0" y="1135080"/>
          <a:ext cx="8929800" cy="5389560"/>
        </p:xfrm>
        <a:graphic>
          <a:graphicData uri="http://schemas.openxmlformats.org/drawingml/2006/table">
            <a:tbl>
              <a:tblPr/>
              <a:tblGrid>
                <a:gridCol w="4702320"/>
                <a:gridCol w="904680"/>
                <a:gridCol w="906480"/>
                <a:gridCol w="817560"/>
                <a:gridCol w="817560"/>
                <a:gridCol w="781200"/>
              </a:tblGrid>
              <a:tr h="5796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расхо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к 2015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</a:tr>
              <a:tr h="463320">
                <a:tc>
                  <a:txBody>
                    <a:bodyPr lIns="10872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72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479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72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0,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110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110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378000">
                <a:tc>
                  <a:txBody>
                    <a:bodyPr lIns="32652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з ни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32652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10872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личное освещ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72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034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457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0,5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457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457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515880">
                <a:tc>
                  <a:txBody>
                    <a:bodyPr lIns="10872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6b9b8"/>
                          </a:solidFill>
                          <a:latin typeface="Calibri"/>
                        </a:rPr>
                        <a:t>Мероприятия по благоустройству территории горо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72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14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6b9b8"/>
                          </a:solidFill>
                          <a:latin typeface="Calibri"/>
                        </a:rPr>
                        <a:t>3120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6b9b8"/>
                          </a:solidFill>
                          <a:latin typeface="Calibri"/>
                        </a:rPr>
                        <a:t>341,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3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3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10872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рганизация и содержание мест захоронен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72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8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99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08,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8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8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555480">
                <a:tc>
                  <a:txBody>
                    <a:bodyPr lIns="10872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чие мероприятия по текущему содержанию горо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72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52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78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4,2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52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52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10872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дпрограмма «Газификация г. Кудымкара на 2016 – 2018 годы и на период до 2023 года»,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72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1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617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5,0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687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687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574920">
                <a:tc>
                  <a:txBody>
                    <a:bodyPr lIns="108720" rIns="9000" tIns="900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- Проектирование распределительных сетей газоснаб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72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651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54,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108720" rIns="9000" tIns="900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- Строительство распределительных сетей газоснаб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72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966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5,8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687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687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TextBox 4"/>
          <p:cNvSpPr/>
          <p:nvPr/>
        </p:nvSpPr>
        <p:spPr>
          <a:xfrm>
            <a:off x="7929720" y="76500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тыс.руб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Box 4"/>
          <p:cNvSpPr/>
          <p:nvPr/>
        </p:nvSpPr>
        <p:spPr>
          <a:xfrm>
            <a:off x="8748720" y="645336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280" y="23760"/>
            <a:ext cx="8272440" cy="89856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66"/>
                </a:solidFill>
                <a:latin typeface="Calibri"/>
              </a:rPr>
              <a:t>Мероприятия по благоустройству территории города Кудымкара на 2016 го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6" name="Схема 5" descr=""/>
          <p:cNvPicPr/>
          <p:nvPr/>
        </p:nvPicPr>
        <p:blipFill>
          <a:blip r:embed="rId1"/>
          <a:stretch/>
        </p:blipFill>
        <p:spPr>
          <a:xfrm>
            <a:off x="-182520" y="1127160"/>
            <a:ext cx="9155160" cy="5730840"/>
          </a:xfrm>
          <a:prstGeom prst="rect">
            <a:avLst/>
          </a:prstGeom>
          <a:ln w="0">
            <a:noFill/>
          </a:ln>
        </p:spPr>
      </p:pic>
      <p:sp>
        <p:nvSpPr>
          <p:cNvPr id="277" name="Выноска со стрелкой вниз 7"/>
          <p:cNvSpPr/>
          <p:nvPr/>
        </p:nvSpPr>
        <p:spPr>
          <a:xfrm>
            <a:off x="2627280" y="907920"/>
            <a:ext cx="3673440" cy="614520"/>
          </a:xfrm>
          <a:prstGeom prst="downArrowCallout">
            <a:avLst>
              <a:gd name="adj1" fmla="val 25020"/>
              <a:gd name="adj2" fmla="val 24990"/>
              <a:gd name="adj3" fmla="val 25000"/>
              <a:gd name="adj4" fmla="val 64977"/>
            </a:avLst>
          </a:prstGeom>
          <a:gradFill rotWithShape="0">
            <a:gsLst>
              <a:gs pos="0">
                <a:srgbClr val="319c9c"/>
              </a:gs>
              <a:gs pos="100000">
                <a:srgbClr val="5bffff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3120,2 тыс.руб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Box 4"/>
          <p:cNvSpPr/>
          <p:nvPr/>
        </p:nvSpPr>
        <p:spPr>
          <a:xfrm>
            <a:off x="8709120" y="65818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900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Комплексное развитие систем коммунальной инфраструктуры города Кудымкара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 на 2014 -2016 годы и плановый период до 2023 г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79280" y="1459080"/>
          <a:ext cx="8750520" cy="4806720"/>
        </p:xfrm>
        <a:graphic>
          <a:graphicData uri="http://schemas.openxmlformats.org/drawingml/2006/table">
            <a:tbl>
              <a:tblPr/>
              <a:tblGrid>
                <a:gridCol w="3930840"/>
                <a:gridCol w="931680"/>
                <a:gridCol w="1008000"/>
                <a:gridCol w="1008360"/>
                <a:gridCol w="933480"/>
                <a:gridCol w="938160"/>
              </a:tblGrid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к 20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</a:tr>
              <a:tr h="284040">
                <a:tc>
                  <a:txBody>
                    <a:bodyPr lIns="1144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8019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10600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32,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8684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260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</a:tr>
              <a:tr h="253080">
                <a:tc>
                  <a:txBody>
                    <a:bodyPr lIns="3430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2680">
                <a:tc>
                  <a:txBody>
                    <a:bodyPr lIns="1144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Модернизация сетей и объектов коммунальной инфраструктуры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в том числе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055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737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45,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1397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1484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</a:tr>
              <a:tr h="496440">
                <a:tc>
                  <a:txBody>
                    <a:bodyPr lIns="114480" rIns="9360" tIns="936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Модернизация сетей и объектов теплоснабжени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37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65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8,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</a:tr>
              <a:tr h="496440">
                <a:tc>
                  <a:txBody>
                    <a:bodyPr lIns="114480" rIns="9360" tIns="936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Модернизация и содержание сетей электроснаб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7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8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,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4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</a:tr>
              <a:tr h="558360">
                <a:tc>
                  <a:txBody>
                    <a:bodyPr lIns="1144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Развитие сетей коммунальной инфраструктуры, всего в том числе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963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3226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08,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7287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1116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</a:tr>
              <a:tr h="268920">
                <a:tc>
                  <a:txBody>
                    <a:bodyPr lIns="114480" rIns="114480" tIns="0" bIns="0" anchor="t">
                      <a:noAutofit/>
                    </a:bodyPr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Развитие сетей водоснабжения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28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60,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90,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</a:tr>
              <a:tr h="268920">
                <a:tc>
                  <a:txBody>
                    <a:bodyPr lIns="114480" rIns="114480" tIns="0" bIns="0" anchor="t">
                      <a:noAutofit/>
                    </a:bodyPr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Развитие сетей водоотведения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6,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</a:tr>
              <a:tr h="268920">
                <a:tc>
                  <a:txBody>
                    <a:bodyPr lIns="114480" rIns="114480" tIns="0" bIns="0" anchor="t">
                      <a:noAutofit/>
                    </a:bodyPr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Развитие сетей теплоснабжения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11,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</a:tr>
              <a:tr h="518760">
                <a:tc>
                  <a:txBody>
                    <a:bodyPr lIns="114480" rIns="114480" tIns="0" bIns="0" anchor="t">
                      <a:noAutofit/>
                    </a:bodyPr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Развитие сетей электроснабжения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6,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,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3,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8,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ab5e4"/>
                    </a:solidFill>
                  </a:tcPr>
                </a:tc>
              </a:tr>
            </a:tbl>
          </a:graphicData>
        </a:graphic>
      </p:graphicFrame>
      <p:sp>
        <p:nvSpPr>
          <p:cNvPr id="281" name="TextBox 4"/>
          <p:cNvSpPr/>
          <p:nvPr/>
        </p:nvSpPr>
        <p:spPr>
          <a:xfrm>
            <a:off x="7929720" y="11001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тыс.руб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8748720" y="645336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6439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Bookman Old Style"/>
              </a:rPr>
              <a:t>Развитие транспортной систем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4" name="Диаграмма 5" descr=""/>
          <p:cNvPicPr/>
          <p:nvPr/>
        </p:nvPicPr>
        <p:blipFill>
          <a:blip r:embed="rId1"/>
          <a:stretch/>
        </p:blipFill>
        <p:spPr>
          <a:xfrm>
            <a:off x="0" y="178596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285" name="TextBox 7"/>
          <p:cNvSpPr/>
          <p:nvPr/>
        </p:nvSpPr>
        <p:spPr>
          <a:xfrm>
            <a:off x="857160" y="500040"/>
            <a:ext cx="7572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Courier New"/>
                <a:ea typeface="Aharoni"/>
              </a:rPr>
              <a:t>Дорожный фонд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Courier New"/>
                <a:ea typeface="Aharoni"/>
              </a:rPr>
              <a:t>города Кудымкара, млн.рублей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8748720" y="645336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C:\Users\ChuprovaGP\Desktop\092ffbd8bb61866032cb55aaf7270f6b.jpg"/>
          <p:cNvPicPr/>
          <p:nvPr/>
        </p:nvPicPr>
        <p:blipFill>
          <a:blip r:embed="rId1"/>
          <a:stretch/>
        </p:blipFill>
        <p:spPr>
          <a:xfrm>
            <a:off x="108000" y="69840"/>
            <a:ext cx="1871640" cy="14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8" name=""/>
          <p:cNvGraphicFramePr/>
          <p:nvPr/>
        </p:nvGraphicFramePr>
        <p:xfrm>
          <a:off x="179280" y="765000"/>
          <a:ext cx="8785440" cy="5832720"/>
        </p:xfrm>
        <a:graphic>
          <a:graphicData uri="http://schemas.openxmlformats.org/drawingml/2006/table">
            <a:tbl>
              <a:tblPr/>
              <a:tblGrid>
                <a:gridCol w="5299200"/>
                <a:gridCol w="711360"/>
                <a:gridCol w="709560"/>
                <a:gridCol w="711000"/>
                <a:gridCol w="709560"/>
                <a:gridCol w="644760"/>
              </a:tblGrid>
              <a:tr h="4971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расхо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85aeff">
                        <a:alpha val="25000"/>
                      </a:srgbClr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5 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85aeff">
                        <a:alpha val="25000"/>
                      </a:srgbClr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6 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85aeff">
                        <a:alpha val="25000"/>
                      </a:srgbClr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к 2015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85aeff">
                        <a:alpha val="25000"/>
                      </a:srgbClr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7 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85aeff">
                        <a:alpha val="25000"/>
                      </a:srgbClr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8 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85aeff">
                        <a:alpha val="25000"/>
                      </a:srgbClr>
                    </a:solidFill>
                  </a:tcPr>
                </a:tc>
              </a:tr>
              <a:tr h="330120">
                <a:tc>
                  <a:txBody>
                    <a:bodyPr lIns="10872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72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1261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23530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10,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23098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23157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32652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a3ff"/>
                          </a:solidFill>
                          <a:latin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32652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10872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a3ff"/>
                          </a:solidFill>
                          <a:latin typeface="Calibri"/>
                        </a:rPr>
                        <a:t>Текущее содержание автомобильных дорог, остановок тротуаров горо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72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a3ff"/>
                          </a:solidFill>
                          <a:latin typeface="Times New Roman"/>
                        </a:rPr>
                        <a:t>10680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a3ff"/>
                          </a:solidFill>
                          <a:latin typeface="Calibri"/>
                        </a:rPr>
                        <a:t>11095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a3ff"/>
                          </a:solidFill>
                          <a:latin typeface="Times New Roman"/>
                        </a:rPr>
                        <a:t>103,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a3ff"/>
                          </a:solidFill>
                          <a:latin typeface="Calibri"/>
                        </a:rPr>
                        <a:t>11971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a3ff"/>
                          </a:solidFill>
                          <a:latin typeface="Calibri"/>
                        </a:rPr>
                        <a:t>12486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10872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a3ff"/>
                          </a:solidFill>
                          <a:latin typeface="Calibri"/>
                        </a:rPr>
                        <a:t>Строительство и капитальный ремонт улично-дорожной сети в асфальтобетонном исполнении, всего в том числе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72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a3ff"/>
                          </a:solidFill>
                          <a:latin typeface="Calibri"/>
                        </a:rPr>
                        <a:t>1811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a3ff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a3ff"/>
                          </a:solidFill>
                          <a:latin typeface="Calibri"/>
                        </a:rPr>
                        <a:t>1768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10872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Строительство улично-дорожной сети в асфальтобетонном исполнен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72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11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10872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Капитальный ремонт, ремонт улично-дорожной сети в асфальтобетонном исполнен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72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68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10872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a3ff"/>
                          </a:solidFill>
                          <a:latin typeface="Calibri"/>
                        </a:rPr>
                        <a:t>Строительство и ремонт улично-дорожной сети в гравийном исполнении, всего в том числе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72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a3ff"/>
                          </a:solidFill>
                          <a:latin typeface="Times New Roman"/>
                        </a:rPr>
                        <a:t>10580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a3ff"/>
                          </a:solidFill>
                          <a:latin typeface="Calibri"/>
                        </a:rPr>
                        <a:t>9296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a3ff"/>
                          </a:solidFill>
                          <a:latin typeface="Times New Roman"/>
                        </a:rPr>
                        <a:t>87,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a3ff"/>
                          </a:solidFill>
                          <a:latin typeface="Calibri"/>
                        </a:rPr>
                        <a:t>10798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a3ff"/>
                          </a:solidFill>
                          <a:latin typeface="Calibri"/>
                        </a:rPr>
                        <a:t>7075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10872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Ремонт подъездных путей в гравийном исполнении к земельным участкам, предоставленным многодетным семья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72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65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50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,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79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7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10872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Капитальный, текущий ремонт улично-дорожной сети в гравийном исполнен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72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414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246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7,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619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805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10872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a3ff"/>
                          </a:solidFill>
                          <a:latin typeface="Calibri"/>
                        </a:rPr>
                        <a:t>Установка остановочных комплекс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72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a3ff"/>
                          </a:solidFill>
                          <a:latin typeface="Calibri"/>
                        </a:rPr>
                        <a:t>327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a3ff"/>
                          </a:solidFill>
                          <a:latin typeface="Calibri"/>
                        </a:rPr>
                        <a:t>327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a3ff"/>
                          </a:solidFill>
                          <a:latin typeface="Calibri"/>
                        </a:rPr>
                        <a:t>327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10872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a3ff"/>
                          </a:solidFill>
                          <a:latin typeface="Calibri"/>
                        </a:rPr>
                        <a:t>Разработка проектно-сметной документации на капитальный ремонт мост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72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a3ff"/>
                          </a:solidFill>
                          <a:latin typeface="Calibri"/>
                        </a:rPr>
                        <a:t>10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a3ff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a3ff"/>
                          </a:solidFill>
                          <a:latin typeface="Calibri"/>
                        </a:rPr>
                        <a:t>15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16000" y="-143280"/>
            <a:ext cx="7742160" cy="119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витие транспортной системы на территории муниципального образования  «Городской округ – город Кудымкар»,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тыс.руб.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TextBox 5"/>
          <p:cNvSpPr/>
          <p:nvPr/>
        </p:nvSpPr>
        <p:spPr>
          <a:xfrm>
            <a:off x="8731080" y="6591240"/>
            <a:ext cx="4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800" spc="-1" strike="noStrike">
                <a:solidFill>
                  <a:srgbClr val="ff0066"/>
                </a:solidFill>
                <a:latin typeface="Calibri"/>
                <a:ea typeface="Times New Roman"/>
              </a:rPr>
              <a:t>Переселение граждан из аварийного жилищного фонда </a:t>
            </a:r>
            <a:br>
              <a:rPr sz="2800"/>
            </a:b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а территории муниципального образования </a:t>
            </a:r>
            <a:br>
              <a:rPr sz="2000"/>
            </a:b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Городской округ – город Кудымкар»  2013 – 2017 годы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42920" y="2071800"/>
          <a:ext cx="8858160" cy="3643200"/>
        </p:xfrm>
        <a:graphic>
          <a:graphicData uri="http://schemas.openxmlformats.org/drawingml/2006/table">
            <a:tbl>
              <a:tblPr/>
              <a:tblGrid>
                <a:gridCol w="5661000"/>
                <a:gridCol w="1087560"/>
                <a:gridCol w="1044360"/>
                <a:gridCol w="1065240"/>
              </a:tblGrid>
              <a:tr h="820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арамет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6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7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8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</a:tr>
              <a:tr h="1274760">
                <a:tc>
                  <a:txBody>
                    <a:bodyPr lIns="114480" rIns="9360" tIns="936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еспечение мероприятий по переселению граждан из аварийного жилищного фонда, 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том числе за счет средств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7946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2855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4080">
                <a:tc>
                  <a:txBody>
                    <a:bodyPr lIns="228600" rIns="9360" tIns="936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местного бюдж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22860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d7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14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d7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727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d7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d7ff"/>
                    </a:solidFill>
                  </a:tcPr>
                </a:tc>
              </a:tr>
              <a:tr h="515880">
                <a:tc>
                  <a:txBody>
                    <a:bodyPr lIns="228600" rIns="9360" tIns="936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бюджета Пермского кр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22860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d7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541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d7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204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d7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d7ff"/>
                    </a:solidFill>
                  </a:tcPr>
                </a:tc>
              </a:tr>
              <a:tr h="517680">
                <a:tc>
                  <a:txBody>
                    <a:bodyPr lIns="228600" rIns="9360" tIns="936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Федерального бюдж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22860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d7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6264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d7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923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d7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d7ff"/>
                    </a:solidFill>
                  </a:tcPr>
                </a:tc>
              </a:tr>
            </a:tbl>
          </a:graphicData>
        </a:graphic>
      </p:graphicFrame>
      <p:sp>
        <p:nvSpPr>
          <p:cNvPr id="293" name="TextBox 4"/>
          <p:cNvSpPr/>
          <p:nvPr/>
        </p:nvSpPr>
        <p:spPr>
          <a:xfrm>
            <a:off x="7929720" y="15717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тыс.руб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8748720" y="645336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27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ff00"/>
                </a:solidFill>
                <a:uFillTx/>
                <a:latin typeface="Calibri"/>
              </a:rPr>
              <a:t>Непрограммные расходы на 2016 г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6" name="Содержимое 4" descr=""/>
          <p:cNvPicPr/>
          <p:nvPr/>
        </p:nvPicPr>
        <p:blipFill>
          <a:blip r:embed="rId1"/>
          <a:stretch/>
        </p:blipFill>
        <p:spPr>
          <a:xfrm>
            <a:off x="0" y="907920"/>
            <a:ext cx="9086760" cy="5856480"/>
          </a:xfrm>
          <a:prstGeom prst="rect">
            <a:avLst/>
          </a:prstGeom>
          <a:ln w="0">
            <a:noFill/>
          </a:ln>
        </p:spPr>
      </p:pic>
      <p:sp>
        <p:nvSpPr>
          <p:cNvPr id="297" name="Прямая соединительная линия 5"/>
          <p:cNvSpPr/>
          <p:nvPr/>
        </p:nvSpPr>
        <p:spPr>
          <a:xfrm>
            <a:off x="4286160" y="1928880"/>
            <a:ext cx="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TextBox 7"/>
          <p:cNvSpPr/>
          <p:nvPr/>
        </p:nvSpPr>
        <p:spPr>
          <a:xfrm>
            <a:off x="3429000" y="3214800"/>
            <a:ext cx="2143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Bookman Old Style"/>
                <a:ea typeface="Arial"/>
              </a:rPr>
              <a:t>70,1 млн.руб. </a:t>
            </a:r>
            <a:r>
              <a:rPr b="1" lang="ru-RU" sz="1800" spc="-1" strike="noStrike">
                <a:solidFill>
                  <a:srgbClr val="ffcc00"/>
                </a:solidFill>
                <a:latin typeface="Bookman Old Style"/>
                <a:ea typeface="Arial"/>
              </a:rPr>
              <a:t>(10,2 % бюджета)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TextBox 6"/>
          <p:cNvSpPr/>
          <p:nvPr/>
        </p:nvSpPr>
        <p:spPr>
          <a:xfrm>
            <a:off x="8748720" y="645336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ик 4"/>
          <p:cNvSpPr/>
          <p:nvPr/>
        </p:nvSpPr>
        <p:spPr>
          <a:xfrm>
            <a:off x="539640" y="40464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  <a:ea typeface="Arial"/>
              </a:rPr>
              <a:t>Расходы на содержание органов местного самоуправления, тыс.руб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50920" y="2421000"/>
          <a:ext cx="8713800" cy="1800000"/>
        </p:xfrm>
        <a:graphic>
          <a:graphicData uri="http://schemas.openxmlformats.org/drawingml/2006/table">
            <a:tbl>
              <a:tblPr/>
              <a:tblGrid>
                <a:gridCol w="3449520"/>
                <a:gridCol w="1028880"/>
                <a:gridCol w="954000"/>
                <a:gridCol w="1305000"/>
                <a:gridCol w="968400"/>
                <a:gridCol w="100800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к 2015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органов местного самоуправления (за счет средств местного бюджет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82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306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,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867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864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</a:tr>
            </a:tbl>
          </a:graphicData>
        </a:graphic>
      </p:graphicFrame>
      <p:sp>
        <p:nvSpPr>
          <p:cNvPr id="302" name="TextBox 3"/>
          <p:cNvSpPr/>
          <p:nvPr/>
        </p:nvSpPr>
        <p:spPr>
          <a:xfrm>
            <a:off x="8748720" y="645336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29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90010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Bookman Old Style"/>
              </a:rPr>
              <a:t>Источники финансирования дефицита бюджета города Кудымкара </a:t>
            </a:r>
            <a:br>
              <a:rPr sz="3200"/>
            </a:br>
            <a:r>
              <a:rPr b="1" lang="ru-RU" sz="3200" spc="-1" strike="noStrike">
                <a:solidFill>
                  <a:srgbClr val="ffc000"/>
                </a:solidFill>
                <a:latin typeface="Bookman Old Style"/>
              </a:rPr>
              <a:t>на 2016-201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14200" y="1052640"/>
          <a:ext cx="8750520" cy="4035240"/>
        </p:xfrm>
        <a:graphic>
          <a:graphicData uri="http://schemas.openxmlformats.org/drawingml/2006/table">
            <a:tbl>
              <a:tblPr/>
              <a:tblGrid>
                <a:gridCol w="4140720"/>
                <a:gridCol w="218880"/>
                <a:gridCol w="936720"/>
                <a:gridCol w="142920"/>
                <a:gridCol w="1080720"/>
                <a:gridCol w="144360"/>
                <a:gridCol w="1008000"/>
                <a:gridCol w="119160"/>
                <a:gridCol w="95904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5 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6 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7 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Дефицит  всег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в том числе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- 16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- 17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- 18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- 15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ae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840">
                <a:tc gridSpan="9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ИСТОЧНИКИ ФИНАНСИРОВАНИЯ ДЕФИЦИТА БЮДЖЕТА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привлечение кредитов банков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0164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погашение креди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бан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fe1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fe1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fe1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fe1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fe1ff"/>
                    </a:solidFill>
                  </a:tcPr>
                </a:tc>
              </a:tr>
              <a:tr h="41184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тки средств на начало года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6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38" name="TextBox 5"/>
          <p:cNvSpPr/>
          <p:nvPr/>
        </p:nvSpPr>
        <p:spPr>
          <a:xfrm>
            <a:off x="8028000" y="70164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  <a:ea typeface="Arial"/>
              </a:rPr>
              <a:t>млн.руб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8760" y="5214960"/>
          <a:ext cx="8215200" cy="1371600"/>
        </p:xfrm>
        <a:graphic>
          <a:graphicData uri="http://schemas.openxmlformats.org/drawingml/2006/table">
            <a:tbl>
              <a:tblPr/>
              <a:tblGrid>
                <a:gridCol w="3979800"/>
                <a:gridCol w="1218960"/>
                <a:gridCol w="1155960"/>
                <a:gridCol w="898560"/>
                <a:gridCol w="9619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>
                      <a:noFill/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асходы  бюджета на обслуживание муниципального  долга (млн 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>
                      <a:noFill/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% в расходах бюдж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>
                      <a:noFill/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Box 1"/>
          <p:cNvSpPr/>
          <p:nvPr/>
        </p:nvSpPr>
        <p:spPr>
          <a:xfrm>
            <a:off x="8748720" y="645336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Содержимое 2" descr="Фото г Кудымкара_MG.jpg"/>
          <p:cNvPicPr/>
          <p:nvPr/>
        </p:nvPicPr>
        <p:blipFill>
          <a:blip r:embed="rId1"/>
          <a:stretch/>
        </p:blipFill>
        <p:spPr>
          <a:xfrm>
            <a:off x="179280" y="3068640"/>
            <a:ext cx="4830840" cy="3586320"/>
          </a:xfrm>
          <a:prstGeom prst="rect">
            <a:avLst/>
          </a:prstGeom>
          <a:ln w="0">
            <a:noFill/>
          </a:ln>
        </p:spPr>
      </p:pic>
      <p:grpSp>
        <p:nvGrpSpPr>
          <p:cNvPr id="304" name="Скругленный прямоугольник 3"/>
          <p:cNvGrpSpPr/>
          <p:nvPr/>
        </p:nvGrpSpPr>
        <p:grpSpPr>
          <a:xfrm>
            <a:off x="1158840" y="324000"/>
            <a:ext cx="7010280" cy="2327040"/>
            <a:chOff x="1158840" y="324000"/>
            <a:chExt cx="7010280" cy="2327040"/>
          </a:xfrm>
        </p:grpSpPr>
        <p:pic>
          <p:nvPicPr>
            <p:cNvPr id="305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158840" y="324000"/>
              <a:ext cx="7010280" cy="23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1282680" y="444600"/>
              <a:ext cx="67597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66ffff"/>
                  </a:solidFill>
                  <a:latin typeface="Bookman Old Style"/>
                  <a:ea typeface="Arial"/>
                </a:rPr>
                <a:t>СПАСИБО </a:t>
              </a:r>
              <a:endParaRPr b="0" lang="en-US" sz="5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66ffff"/>
                  </a:solidFill>
                  <a:latin typeface="Bookman Old Style"/>
                  <a:ea typeface="Arial"/>
                </a:rPr>
                <a:t>ЗА</a:t>
              </a:r>
              <a:r>
                <a:rPr b="1" lang="en-US" sz="5400" spc="-1" strike="noStrike">
                  <a:solidFill>
                    <a:srgbClr val="66ffff"/>
                  </a:solidFill>
                  <a:latin typeface="Bookman Old Style"/>
                  <a:ea typeface="Arial"/>
                </a:rPr>
                <a:t> </a:t>
              </a:r>
              <a:r>
                <a:rPr b="1" lang="ru-RU" sz="5400" spc="-1" strike="noStrike">
                  <a:solidFill>
                    <a:srgbClr val="66ffff"/>
                  </a:solidFill>
                  <a:latin typeface="Bookman Old Style"/>
                  <a:ea typeface="Arial"/>
                </a:rPr>
                <a:t>ВНИМАНИЕ !</a:t>
              </a:r>
              <a:endParaRPr b="0" lang="en-US" sz="5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7" name="Прямоугольник с двумя вырезанными противолежащими углами 4"/>
          <p:cNvSpPr/>
          <p:nvPr/>
        </p:nvSpPr>
        <p:spPr>
          <a:xfrm>
            <a:off x="5148360" y="5300640"/>
            <a:ext cx="3671640" cy="100800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Ждем Вас по адресу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Book Antiqua"/>
              </a:rPr>
              <a:t>www.admkud.ru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Изменения федерального законодательства, вступающие в силу в плановом периоде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3640" y="119664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66"/>
                </a:solidFill>
                <a:latin typeface="Times New Roman"/>
                <a:ea typeface="Aharoni"/>
              </a:rPr>
              <a:t>(</a:t>
            </a:r>
            <a:r>
              <a:rPr b="0" lang="ru-RU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Федеральный закон от 03.12.2012 года № 244-ФЗ                                                «О внесении изменений в Бюджетный кодекс РФ и отдельные законодательные акты Российской Федерации»)</a:t>
            </a:r>
            <a:r>
              <a:rPr b="1" lang="ru-RU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ff"/>
                </a:solidFill>
                <a:latin typeface="Times New Roman"/>
                <a:ea typeface="Aharoni"/>
              </a:rPr>
              <a:t>Увеличение норматива зачисления платы за негативное воздействие на окружающую среду в бюджеты МР (ГО)                   с 40% до 55%;                      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Федеральный закон от 21.07.2014 N 219-ФЗ «О внесении изменений                                                               в Федеральный закон "Об охране окружающей среды" и отдельные законодательные акты Российской Федерации»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ff"/>
                </a:solidFill>
                <a:latin typeface="Times New Roman"/>
                <a:ea typeface="Aharoni"/>
              </a:rPr>
              <a:t>переход с ежеквартальной уплаты на уплату платы 1 раз в год;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п.8 ст.5 Федерального закона от 29.06.2012 N 97-ФЗ "О внесении изменений в часть первую и часть вторую Налогового кодекса РФ и статью 26 Федерального закона "О банках и банковской деятельности"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ff"/>
                </a:solidFill>
                <a:latin typeface="Times New Roman"/>
                <a:ea typeface="Aharoni"/>
              </a:rPr>
              <a:t>Положения главы 26.3 «Система налогообложения в виде единого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ff"/>
                </a:solidFill>
                <a:latin typeface="Times New Roman"/>
                <a:ea typeface="Aharoni"/>
              </a:rPr>
              <a:t>     </a:t>
            </a:r>
            <a:r>
              <a:rPr b="0" lang="ru-RU" sz="2200" spc="-1" strike="noStrike">
                <a:solidFill>
                  <a:srgbClr val="66ffff"/>
                </a:solidFill>
                <a:latin typeface="Times New Roman"/>
                <a:ea typeface="Aharoni"/>
              </a:rPr>
              <a:t>налога на вмененный доход для отдельных видов деятельности»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ff"/>
                </a:solidFill>
                <a:latin typeface="Times New Roman"/>
                <a:ea typeface="Aharoni"/>
              </a:rPr>
              <a:t>     </a:t>
            </a:r>
            <a:r>
              <a:rPr b="0" lang="ru-RU" sz="2200" spc="-1" strike="noStrike">
                <a:solidFill>
                  <a:srgbClr val="66ffff"/>
                </a:solidFill>
                <a:latin typeface="Times New Roman"/>
                <a:ea typeface="Aharoni"/>
              </a:rPr>
              <a:t>не применяются  с 1 января 2018 года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beef4"/>
                </a:solidFill>
                <a:latin typeface="Times New Roman"/>
                <a:ea typeface="Aharoni"/>
              </a:rPr>
              <a:t>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8748720" y="645336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Изменения краевого законодательства, вступающие в силу в плановом периоде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Закон Пермского края от 01.04.2015 № 465-ПК «О патентной системе налогообложения в Пермском крае, установлении налоговой ставки в размере 0 процентов для отдельной категории налогоплательщиков, применяющих патентную систему налогообложения и о внесении изменений в Закон Пермской области «О налогообложении в Пермском крае» </a:t>
            </a:r>
            <a:r>
              <a:rPr b="1" lang="ru-RU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в редакции от 05.11.2015 г.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введение территориальной дифференциации размеров потенциально возможного к получению годового дохода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введение «налоговых каникул» для впервые зарегистрированных предпринимателей, осуществляющих деятельность в производственной, научной и социальной сферах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расширение перечня видов деятельности, при которых возможно применение патентной системы налогообложения на16 дополнительных видов деятельност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8748720" y="645336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08000" y="1214280"/>
          <a:ext cx="8928000" cy="5280120"/>
        </p:xfrm>
        <a:graphic>
          <a:graphicData uri="http://schemas.openxmlformats.org/drawingml/2006/table">
            <a:tbl>
              <a:tblPr/>
              <a:tblGrid>
                <a:gridCol w="3095640"/>
                <a:gridCol w="936720"/>
                <a:gridCol w="863280"/>
                <a:gridCol w="1008360"/>
                <a:gridCol w="1081080"/>
                <a:gridCol w="1008000"/>
                <a:gridCol w="934920"/>
              </a:tblGrid>
              <a:tr h="30492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показател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диница измерения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чение показател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4 год (факт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5 год (оценка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 год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орот крупных и средних предприяти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942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185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289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429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580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ъем отгруженной продукции собственного производства, выполненных работ и услуг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75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10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7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5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орот розничной торговл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541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984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283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544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826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орот общественного питан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4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6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8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9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ъем платных услуг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76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9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39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60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есписочная численность работников по крупным и средним предприятия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1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9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9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9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ленность зарегистрированных безработных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нд начисленной заработной платы по крупным и средним предприятия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842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750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811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874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940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пы роста фонда заработной платы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0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3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3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3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ляция в регионе (среднегодовой ИПЦ),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7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4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9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6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6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30120" y="4392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сновные макроэкономические показатели </a:t>
            </a:r>
            <a:br>
              <a:rPr sz="2800"/>
            </a:b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а 2016-2018 годы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8748720" y="645336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оходы бюджета города Кудымкара </a:t>
            </a:r>
            <a:br>
              <a:rPr sz="2800"/>
            </a:b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а 2016-2018 годы,      млн. руб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1" name="Объект 25"/>
          <p:cNvGraphicFramePr/>
          <p:nvPr/>
        </p:nvGraphicFramePr>
        <p:xfrm>
          <a:off x="406440" y="1366920"/>
          <a:ext cx="8331120" cy="53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Объект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366920"/>
                    <a:ext cx="8331120" cy="53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extBox 26"/>
          <p:cNvSpPr/>
          <p:nvPr/>
        </p:nvSpPr>
        <p:spPr>
          <a:xfrm>
            <a:off x="3780000" y="1557360"/>
            <a:ext cx="107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70,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54" name="TextBox 29"/>
          <p:cNvGrpSpPr/>
          <p:nvPr/>
        </p:nvGrpSpPr>
        <p:grpSpPr>
          <a:xfrm>
            <a:off x="3511440" y="2109960"/>
            <a:ext cx="785880" cy="431640"/>
            <a:chOff x="3511440" y="2109960"/>
            <a:chExt cx="785880" cy="431640"/>
          </a:xfrm>
        </p:grpSpPr>
        <p:pic>
          <p:nvPicPr>
            <p:cNvPr id="155" name="TextBox 29" descr=""/>
            <p:cNvPicPr/>
            <p:nvPr/>
          </p:nvPicPr>
          <p:blipFill>
            <a:blip r:embed="rId3"/>
            <a:stretch/>
          </p:blipFill>
          <p:spPr>
            <a:xfrm>
              <a:off x="3511440" y="2109960"/>
              <a:ext cx="78588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564000" y="214164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alibri"/>
                </a:rPr>
                <a:t>68,9 %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7" name="TextBox 5"/>
          <p:cNvSpPr/>
          <p:nvPr/>
        </p:nvSpPr>
        <p:spPr>
          <a:xfrm>
            <a:off x="8748720" y="645336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Диаграмма 1"/>
          <p:cNvGraphicFramePr/>
          <p:nvPr/>
        </p:nvGraphicFramePr>
        <p:xfrm>
          <a:off x="127080" y="3768840"/>
          <a:ext cx="4408560" cy="293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3768840"/>
                    <a:ext cx="4408560" cy="29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3"/>
          <p:cNvGraphicFramePr/>
          <p:nvPr/>
        </p:nvGraphicFramePr>
        <p:xfrm>
          <a:off x="4600440" y="247680"/>
          <a:ext cx="4969080" cy="2824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00440" y="247680"/>
                    <a:ext cx="4969080" cy="28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4"/>
          <p:cNvGraphicFramePr/>
          <p:nvPr/>
        </p:nvGraphicFramePr>
        <p:xfrm>
          <a:off x="2428920" y="1986120"/>
          <a:ext cx="4556160" cy="29113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28920" y="1986120"/>
                    <a:ext cx="4556160" cy="29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Прямоугольник 6"/>
          <p:cNvGrpSpPr/>
          <p:nvPr/>
        </p:nvGrpSpPr>
        <p:grpSpPr>
          <a:xfrm>
            <a:off x="6102360" y="5211720"/>
            <a:ext cx="390600" cy="317520"/>
            <a:chOff x="6102360" y="5211720"/>
            <a:chExt cx="390600" cy="317520"/>
          </a:xfrm>
        </p:grpSpPr>
        <p:pic>
          <p:nvPicPr>
            <p:cNvPr id="165" name="Прямоугольник 6" descr=""/>
            <p:cNvPicPr/>
            <p:nvPr/>
          </p:nvPicPr>
          <p:blipFill>
            <a:blip r:embed="rId7"/>
            <a:stretch/>
          </p:blipFill>
          <p:spPr>
            <a:xfrm>
              <a:off x="6102360" y="5211720"/>
              <a:ext cx="39060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6114960" y="5227560"/>
              <a:ext cx="36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7" name="Прямоугольник 7"/>
          <p:cNvGrpSpPr/>
          <p:nvPr/>
        </p:nvGrpSpPr>
        <p:grpSpPr>
          <a:xfrm>
            <a:off x="6076800" y="3949560"/>
            <a:ext cx="390600" cy="317520"/>
            <a:chOff x="6076800" y="3949560"/>
            <a:chExt cx="390600" cy="317520"/>
          </a:xfrm>
        </p:grpSpPr>
        <p:pic>
          <p:nvPicPr>
            <p:cNvPr id="168" name="Прямоугольник 7" descr=""/>
            <p:cNvPicPr/>
            <p:nvPr/>
          </p:nvPicPr>
          <p:blipFill>
            <a:blip r:embed="rId8"/>
            <a:stretch/>
          </p:blipFill>
          <p:spPr>
            <a:xfrm>
              <a:off x="6076800" y="3949560"/>
              <a:ext cx="39060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6091200" y="3967200"/>
              <a:ext cx="358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70" name="Группа 50"/>
          <p:cNvGrpSpPr/>
          <p:nvPr/>
        </p:nvGrpSpPr>
        <p:grpSpPr>
          <a:xfrm>
            <a:off x="6005520" y="1828800"/>
            <a:ext cx="803160" cy="593640"/>
            <a:chOff x="6005520" y="1828800"/>
            <a:chExt cx="803160" cy="593640"/>
          </a:xfrm>
        </p:grpSpPr>
        <p:grpSp>
          <p:nvGrpSpPr>
            <p:cNvPr id="171" name="Овал 11"/>
            <p:cNvGrpSpPr/>
            <p:nvPr/>
          </p:nvGrpSpPr>
          <p:grpSpPr>
            <a:xfrm>
              <a:off x="6005520" y="1828800"/>
              <a:ext cx="718200" cy="593640"/>
              <a:chOff x="6005520" y="1828800"/>
              <a:chExt cx="718200" cy="593640"/>
            </a:xfrm>
          </p:grpSpPr>
          <p:pic>
            <p:nvPicPr>
              <p:cNvPr id="172" name="Овал 11" descr=""/>
              <p:cNvPicPr/>
              <p:nvPr/>
            </p:nvPicPr>
            <p:blipFill>
              <a:blip r:embed="rId9"/>
              <a:stretch/>
            </p:blipFill>
            <p:spPr>
              <a:xfrm>
                <a:off x="6005520" y="1828800"/>
                <a:ext cx="71820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6162120" y="1960200"/>
                <a:ext cx="4021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4" name="TextBox 52"/>
            <p:cNvSpPr/>
            <p:nvPr/>
          </p:nvSpPr>
          <p:spPr>
            <a:xfrm>
              <a:off x="6057720" y="1941480"/>
              <a:ext cx="75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90,3%</a:t>
              </a: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75" name="Группа 50"/>
          <p:cNvGrpSpPr/>
          <p:nvPr/>
        </p:nvGrpSpPr>
        <p:grpSpPr>
          <a:xfrm>
            <a:off x="3610080" y="3581280"/>
            <a:ext cx="855720" cy="563760"/>
            <a:chOff x="3610080" y="3581280"/>
            <a:chExt cx="855720" cy="563760"/>
          </a:xfrm>
        </p:grpSpPr>
        <p:grpSp>
          <p:nvGrpSpPr>
            <p:cNvPr id="176" name="Овал 17"/>
            <p:cNvGrpSpPr/>
            <p:nvPr/>
          </p:nvGrpSpPr>
          <p:grpSpPr>
            <a:xfrm>
              <a:off x="3610080" y="3581280"/>
              <a:ext cx="755280" cy="563760"/>
              <a:chOff x="3610080" y="3581280"/>
              <a:chExt cx="755280" cy="563760"/>
            </a:xfrm>
          </p:grpSpPr>
          <p:pic>
            <p:nvPicPr>
              <p:cNvPr id="177" name="Овал 17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10080" y="3581280"/>
                <a:ext cx="75528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3774240" y="3705480"/>
                <a:ext cx="429840" cy="31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9" name="TextBox 52"/>
            <p:cNvSpPr/>
            <p:nvPr/>
          </p:nvSpPr>
          <p:spPr>
            <a:xfrm>
              <a:off x="3662640" y="3687840"/>
              <a:ext cx="80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90,7%</a:t>
              </a: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80" name="Группа 50"/>
          <p:cNvGrpSpPr/>
          <p:nvPr/>
        </p:nvGrpSpPr>
        <p:grpSpPr>
          <a:xfrm>
            <a:off x="7085160" y="104760"/>
            <a:ext cx="726840" cy="574560"/>
            <a:chOff x="7085160" y="104760"/>
            <a:chExt cx="726840" cy="574560"/>
          </a:xfrm>
        </p:grpSpPr>
        <p:grpSp>
          <p:nvGrpSpPr>
            <p:cNvPr id="181" name="Овал 20"/>
            <p:cNvGrpSpPr/>
            <p:nvPr/>
          </p:nvGrpSpPr>
          <p:grpSpPr>
            <a:xfrm>
              <a:off x="7085160" y="104760"/>
              <a:ext cx="656280" cy="574560"/>
              <a:chOff x="7085160" y="104760"/>
              <a:chExt cx="656280" cy="574560"/>
            </a:xfrm>
          </p:grpSpPr>
          <p:pic>
            <p:nvPicPr>
              <p:cNvPr id="182" name="Овал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7085160" y="104760"/>
                <a:ext cx="656280" cy="57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7230960" y="234000"/>
                <a:ext cx="36108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4" name="TextBox 52"/>
            <p:cNvSpPr/>
            <p:nvPr/>
          </p:nvSpPr>
          <p:spPr>
            <a:xfrm>
              <a:off x="7137360" y="21600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9,7%</a:t>
              </a: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85" name="Группа 50"/>
          <p:cNvGrpSpPr/>
          <p:nvPr/>
        </p:nvGrpSpPr>
        <p:grpSpPr>
          <a:xfrm>
            <a:off x="4600440" y="1828800"/>
            <a:ext cx="792360" cy="679320"/>
            <a:chOff x="4600440" y="1828800"/>
            <a:chExt cx="792360" cy="679320"/>
          </a:xfrm>
        </p:grpSpPr>
        <p:grpSp>
          <p:nvGrpSpPr>
            <p:cNvPr id="186" name="Овал 23"/>
            <p:cNvGrpSpPr/>
            <p:nvPr/>
          </p:nvGrpSpPr>
          <p:grpSpPr>
            <a:xfrm>
              <a:off x="4600440" y="1828800"/>
              <a:ext cx="715320" cy="679320"/>
              <a:chOff x="4600440" y="1828800"/>
              <a:chExt cx="715320" cy="679320"/>
            </a:xfrm>
          </p:grpSpPr>
          <p:pic>
            <p:nvPicPr>
              <p:cNvPr id="187" name="Овал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4600440" y="1828800"/>
                <a:ext cx="715320" cy="67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4763160" y="1984680"/>
                <a:ext cx="39132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9" name="TextBox 52"/>
            <p:cNvSpPr/>
            <p:nvPr/>
          </p:nvSpPr>
          <p:spPr>
            <a:xfrm>
              <a:off x="4661640" y="1963800"/>
              <a:ext cx="73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9,3%</a:t>
              </a: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Группа 50"/>
          <p:cNvGrpSpPr/>
          <p:nvPr/>
        </p:nvGrpSpPr>
        <p:grpSpPr>
          <a:xfrm>
            <a:off x="1476360" y="5452920"/>
            <a:ext cx="801720" cy="737280"/>
            <a:chOff x="1476360" y="5452920"/>
            <a:chExt cx="801720" cy="737280"/>
          </a:xfrm>
        </p:grpSpPr>
        <p:grpSp>
          <p:nvGrpSpPr>
            <p:cNvPr id="191" name="Овал 26"/>
            <p:cNvGrpSpPr/>
            <p:nvPr/>
          </p:nvGrpSpPr>
          <p:grpSpPr>
            <a:xfrm>
              <a:off x="1476360" y="5452920"/>
              <a:ext cx="792360" cy="630360"/>
              <a:chOff x="1476360" y="5452920"/>
              <a:chExt cx="792360" cy="630360"/>
            </a:xfrm>
          </p:grpSpPr>
          <p:pic>
            <p:nvPicPr>
              <p:cNvPr id="192" name="Овал 26" descr=""/>
              <p:cNvPicPr/>
              <p:nvPr/>
            </p:nvPicPr>
            <p:blipFill>
              <a:blip r:embed="rId13"/>
              <a:stretch/>
            </p:blipFill>
            <p:spPr>
              <a:xfrm>
                <a:off x="1476360" y="5452920"/>
                <a:ext cx="792360" cy="63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1643760" y="5587920"/>
                <a:ext cx="45576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94" name="TextBox 52"/>
            <p:cNvSpPr/>
            <p:nvPr/>
          </p:nvSpPr>
          <p:spPr>
            <a:xfrm>
              <a:off x="1549440" y="5609520"/>
              <a:ext cx="728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7,1%</a:t>
              </a: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5" name="Группа 50"/>
          <p:cNvGrpSpPr/>
          <p:nvPr/>
        </p:nvGrpSpPr>
        <p:grpSpPr>
          <a:xfrm>
            <a:off x="2401920" y="3720960"/>
            <a:ext cx="771480" cy="629640"/>
            <a:chOff x="2401920" y="3720960"/>
            <a:chExt cx="771480" cy="629640"/>
          </a:xfrm>
        </p:grpSpPr>
        <p:grpSp>
          <p:nvGrpSpPr>
            <p:cNvPr id="196" name="Овал 29"/>
            <p:cNvGrpSpPr/>
            <p:nvPr/>
          </p:nvGrpSpPr>
          <p:grpSpPr>
            <a:xfrm>
              <a:off x="2401920" y="3720960"/>
              <a:ext cx="738000" cy="629640"/>
              <a:chOff x="2401920" y="3720960"/>
              <a:chExt cx="738000" cy="629640"/>
            </a:xfrm>
          </p:grpSpPr>
          <p:pic>
            <p:nvPicPr>
              <p:cNvPr id="197" name="Овал 29" descr=""/>
              <p:cNvPicPr/>
              <p:nvPr/>
            </p:nvPicPr>
            <p:blipFill>
              <a:blip r:embed="rId14"/>
              <a:stretch/>
            </p:blipFill>
            <p:spPr>
              <a:xfrm>
                <a:off x="2401920" y="3720960"/>
                <a:ext cx="738000" cy="62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2566080" y="3865680"/>
                <a:ext cx="409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99" name="TextBox 52"/>
            <p:cNvSpPr/>
            <p:nvPr/>
          </p:nvSpPr>
          <p:spPr>
            <a:xfrm>
              <a:off x="2407680" y="3851640"/>
              <a:ext cx="76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2,9%</a:t>
              </a: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0" name="TextBox 31"/>
          <p:cNvSpPr/>
          <p:nvPr/>
        </p:nvSpPr>
        <p:spPr>
          <a:xfrm>
            <a:off x="6553080" y="39290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логовые доход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TextBox 32"/>
          <p:cNvSpPr/>
          <p:nvPr/>
        </p:nvSpPr>
        <p:spPr>
          <a:xfrm>
            <a:off x="6651720" y="51436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еналоговые доход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37"/>
          <p:cNvSpPr/>
          <p:nvPr/>
        </p:nvSpPr>
        <p:spPr>
          <a:xfrm>
            <a:off x="0" y="2133720"/>
            <a:ext cx="300024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Arial"/>
                <a:ea typeface="Arial"/>
              </a:rPr>
              <a:t>ДОХОДЫ всего: </a:t>
            </a:r>
            <a:br>
              <a:rPr sz="1600"/>
            </a:br>
            <a:r>
              <a:rPr b="1" lang="ru-RU" sz="1600" spc="-1" strike="noStrike">
                <a:solidFill>
                  <a:srgbClr val="eeece1"/>
                </a:solidFill>
                <a:latin typeface="Arial"/>
                <a:ea typeface="Arial"/>
              </a:rPr>
              <a:t>2016 – 670 465,3 </a:t>
            </a:r>
            <a:r>
              <a:rPr b="1" lang="ru-RU" sz="1000" spc="-1" strike="noStrike">
                <a:solidFill>
                  <a:srgbClr val="eeece1"/>
                </a:solidFill>
                <a:latin typeface="Arial"/>
                <a:ea typeface="Arial"/>
              </a:rPr>
              <a:t>тыс. рублей</a:t>
            </a:r>
            <a:r>
              <a:rPr b="1" lang="ru-RU" sz="900" spc="-1" strike="noStrike">
                <a:solidFill>
                  <a:srgbClr val="eeece1"/>
                </a:solidFill>
                <a:latin typeface="Arial"/>
                <a:ea typeface="Arial"/>
              </a:rPr>
              <a:t>     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Arial"/>
                <a:ea typeface="Arial"/>
              </a:rPr>
              <a:t>2017 – 631 207,8 </a:t>
            </a:r>
            <a:r>
              <a:rPr b="1" lang="ru-RU" sz="1000" spc="-1" strike="noStrike">
                <a:solidFill>
                  <a:srgbClr val="eeece1"/>
                </a:solidFill>
                <a:latin typeface="Arial"/>
                <a:ea typeface="Arial"/>
              </a:rPr>
              <a:t>тыс. рублей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ce1"/>
                </a:solidFill>
                <a:latin typeface="Arial"/>
                <a:ea typeface="Arial"/>
              </a:rPr>
              <a:t>2</a:t>
            </a:r>
            <a:r>
              <a:rPr b="1" lang="ru-RU" sz="1600" spc="-1" strike="noStrike">
                <a:solidFill>
                  <a:srgbClr val="eeece1"/>
                </a:solidFill>
                <a:latin typeface="Arial"/>
                <a:ea typeface="Arial"/>
              </a:rPr>
              <a:t>018 – 603 782,9 </a:t>
            </a:r>
            <a:r>
              <a:rPr b="1" lang="ru-RU" sz="1000" spc="-1" strike="noStrike">
                <a:solidFill>
                  <a:srgbClr val="eeece1"/>
                </a:solidFill>
                <a:latin typeface="Arial"/>
                <a:ea typeface="Arial"/>
              </a:rPr>
              <a:t>тыс. рублей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TextBox 40"/>
          <p:cNvSpPr/>
          <p:nvPr/>
        </p:nvSpPr>
        <p:spPr>
          <a:xfrm>
            <a:off x="6019920" y="5572080"/>
            <a:ext cx="328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2016 –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26 933,4 </a:t>
            </a:r>
            <a:r>
              <a:rPr b="0" lang="ru-RU" sz="1600" spc="-1" strike="noStrike">
                <a:solidFill>
                  <a:srgbClr val="eeece1"/>
                </a:solidFill>
                <a:latin typeface="Arial"/>
                <a:ea typeface="Arial"/>
              </a:rPr>
              <a:t>тыс. рублей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2017 –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18 955,5</a:t>
            </a:r>
            <a:r>
              <a:rPr b="1" lang="ru-RU" sz="1600" spc="-1" strike="noStrike">
                <a:solidFill>
                  <a:srgbClr val="eeece1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eeece1"/>
                </a:solidFill>
                <a:latin typeface="Arial"/>
                <a:ea typeface="Arial"/>
              </a:rPr>
              <a:t>тыс. рублей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2018 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18 355,8 </a:t>
            </a:r>
            <a:r>
              <a:rPr b="0" lang="ru-RU" sz="1600" spc="-1" strike="noStrike">
                <a:solidFill>
                  <a:srgbClr val="eeece1"/>
                </a:solidFill>
                <a:latin typeface="Arial"/>
                <a:ea typeface="Arial"/>
              </a:rPr>
              <a:t>тыс. рублей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TextBox 41"/>
          <p:cNvSpPr/>
          <p:nvPr/>
        </p:nvSpPr>
        <p:spPr>
          <a:xfrm>
            <a:off x="6114960" y="4286160"/>
            <a:ext cx="330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2016 –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181 733,7</a:t>
            </a:r>
            <a:r>
              <a:rPr b="1" lang="ru-RU" sz="1600" spc="-1" strike="noStrike">
                <a:solidFill>
                  <a:srgbClr val="eeece1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eeece1"/>
                </a:solidFill>
                <a:latin typeface="Arial"/>
                <a:ea typeface="Arial"/>
              </a:rPr>
              <a:t>тыс. рублей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2017 –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185 638,1 </a:t>
            </a:r>
            <a:r>
              <a:rPr b="0" lang="ru-RU" sz="1600" spc="-1" strike="noStrike">
                <a:solidFill>
                  <a:srgbClr val="eeece1"/>
                </a:solidFill>
                <a:latin typeface="Arial"/>
                <a:ea typeface="Arial"/>
              </a:rPr>
              <a:t>тыс. рублей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2018 –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169 971,5 </a:t>
            </a:r>
            <a:r>
              <a:rPr b="0" lang="ru-RU" sz="1600" spc="-1" strike="noStrike">
                <a:solidFill>
                  <a:srgbClr val="eeece1"/>
                </a:solidFill>
                <a:latin typeface="Arial"/>
                <a:ea typeface="Arial"/>
              </a:rPr>
              <a:t>тыс. рублей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TextBox 42"/>
          <p:cNvSpPr/>
          <p:nvPr/>
        </p:nvSpPr>
        <p:spPr>
          <a:xfrm>
            <a:off x="318960" y="4145040"/>
            <a:ext cx="8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0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TextBox 43"/>
          <p:cNvSpPr/>
          <p:nvPr/>
        </p:nvSpPr>
        <p:spPr>
          <a:xfrm>
            <a:off x="5850000" y="2160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018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extBox 44"/>
          <p:cNvSpPr/>
          <p:nvPr/>
        </p:nvSpPr>
        <p:spPr>
          <a:xfrm>
            <a:off x="3382920" y="19494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017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8" name="Прямоугольник 46" descr=""/>
          <p:cNvPicPr/>
          <p:nvPr/>
        </p:nvPicPr>
        <p:blipFill>
          <a:blip r:embed="rId15"/>
          <a:stretch/>
        </p:blipFill>
        <p:spPr>
          <a:xfrm>
            <a:off x="109440" y="268200"/>
            <a:ext cx="5761080" cy="1451160"/>
          </a:xfrm>
          <a:prstGeom prst="rect">
            <a:avLst/>
          </a:prstGeom>
          <a:ln w="0">
            <a:noFill/>
          </a:ln>
        </p:spPr>
      </p:pic>
      <p:sp>
        <p:nvSpPr>
          <p:cNvPr id="209" name="TextBox 33"/>
          <p:cNvSpPr/>
          <p:nvPr/>
        </p:nvSpPr>
        <p:spPr>
          <a:xfrm>
            <a:off x="8748720" y="645336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4"/>
          <p:cNvSpPr/>
          <p:nvPr/>
        </p:nvSpPr>
        <p:spPr>
          <a:xfrm>
            <a:off x="8101080" y="6381720"/>
            <a:ext cx="934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3918-6938-4067-BAFC-DD1BDF2C9330}" type="slidenum"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труктура  налоговых доходов бюджета</a:t>
            </a:r>
            <a:br>
              <a:rPr sz="3200"/>
            </a:b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орода Кудымкар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12" name="Диаграмма 5"/>
          <p:cNvGraphicFramePr/>
          <p:nvPr/>
        </p:nvGraphicFramePr>
        <p:xfrm>
          <a:off x="-252360" y="2133720"/>
          <a:ext cx="5256000" cy="237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Диаграмма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2360" y="2133720"/>
                    <a:ext cx="525600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Диаграмма 7"/>
          <p:cNvGraphicFramePr/>
          <p:nvPr/>
        </p:nvGraphicFramePr>
        <p:xfrm>
          <a:off x="3967200" y="1290600"/>
          <a:ext cx="5119560" cy="5116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5" name="Диаграмма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7200" y="1290600"/>
                    <a:ext cx="5119560" cy="51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Box 8"/>
          <p:cNvSpPr/>
          <p:nvPr/>
        </p:nvSpPr>
        <p:spPr>
          <a:xfrm>
            <a:off x="214200" y="1285920"/>
            <a:ext cx="39290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5 год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оначальный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00:35:20Z</dcterms:created>
  <dc:creator>danilovasn</dc:creator>
  <dc:description/>
  <dc:language>en-US</dc:language>
  <cp:lastModifiedBy>matrix</cp:lastModifiedBy>
  <dcterms:modified xsi:type="dcterms:W3CDTF">2015-12-09T07:19:51Z</dcterms:modified>
  <cp:revision>354</cp:revision>
  <dc:subject/>
  <dc:title>Слайд 1</dc:title>
</cp:coreProperties>
</file>